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46CC-C4FC-4D40-B14A-3F84E9626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9627-E2F2-43B3-B69A-F30CF76851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3863-4EC9-4C14-8852-07B9768CE1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ED72-5DDE-4530-B5A0-FFD8C98771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EEF7-BE66-44EF-B7EA-D25F5CA252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BF68-8C90-4357-BC51-C49482F6BB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AD4C-66C3-43DC-93CD-446668187D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C259-B848-4F8A-9BBE-703DAE070C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4E3-C8A0-42DC-85A8-D01C89C058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E59C-8763-4CDB-8DF3-195DA21759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D113-5CC5-44B0-94B6-9B803C60BB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F170-C034-4EB2-B2C7-790DC7F13A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3902-F157-44C8-B639-610DB9DE22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3536-A02C-49FC-842F-B39B505663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54F3-982D-4776-B8C0-F625659766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1194B-0238-4995-A47B-BBDF3A686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1FB00-EC2B-4558-BF67-B538331D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5F065-BDA3-40D4-8ECC-FD23DB091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9246F-BA27-4566-A878-CC2FF4BB9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BBA35-962E-4D13-B172-6D2E1009F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539C4-1088-4936-B978-62063977A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D0567-7C00-4C03-BAA5-2EEC95F5C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FDD8-64DC-4692-AF0A-2565DE8B4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3433A-AC44-47B4-9BFE-BBE7994AA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41DE5-7ECE-4FED-A0EB-77134492C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4E517-9E62-42CE-BC34-4D41F560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7D283-48F3-45E2-84C2-1C03105D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E9EB-BC1F-4D4D-B828-B3F099763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6149D-FF1A-4B55-92BA-BCBA47CBC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E9F46-4B6A-4B1B-8160-77CE0C808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0232B-5AAE-4A7C-AD0F-8E0A99CF6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3B655-FC39-4721-B8F5-2442D42D6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5ED0E-2E30-42DC-BC1D-7DA261843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AD3A2-3405-4CB9-BF8F-7229EB61E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5017A-C70A-427E-BB93-4C2F800A0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4E6D3-FCA3-48AE-BE7B-AA5DD39AB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44755-721E-44DD-9750-D374F1747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74CA-863B-4534-B764-35004D7E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231062-5640-4C7A-8E82-F5A710449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66972-545C-4CA6-B341-A9EEEEBB2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AF198-ED15-4D74-AD11-4CC3AE50E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7E31A-60E1-4DFB-9958-CA7636088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85E43-1AA9-499A-920D-839FABE4A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EC841-C00E-41C9-8B3C-1143C5B31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6559DC-AFDE-4A0D-919C-4BB46AF98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78B377-8E6C-4AE8-B6DC-C3B00D0EF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4FDCA-E384-4A5B-AA89-E6A36CE7C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3F223-304F-4C17-A3BD-5D8CC5691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EAF17-1B4F-47CA-A107-6EA1492D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9242B-0645-4989-9E4B-622D3F4C1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394E5-2E8A-4066-A5C4-D13147CAD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45812-1D05-4C51-8434-41EB8BC91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756C2-6EE4-4102-88A9-285A0154D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51305-A142-436A-AA29-209250C5C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08E3A-8602-4609-8B06-5BADDCEF1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FF15E6-DD7D-42A9-A43F-6796A4390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A761E4-F2CC-4DCE-955C-A3DE60C94F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1BF489-C6D7-4980-A2CD-4B85EEB589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114FD-44A4-4DCD-ADB9-EEEAA80CCC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35E8-B327-402D-B02A-66712F932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71CD1-6F82-40F5-A85B-F3B2AE12D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5CA84-7755-45CC-9C56-26C25CE49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8C272-1B03-448D-89C6-EA48DA604D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6B4E6-27B0-43ED-B71B-BCBD811EC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67F1E-0C4C-4E1A-B54D-924D517B0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E1480-157C-43F3-8E12-4288AD4BC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D9F41-0AE7-423C-AC0E-04D4BF43E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94A1F-274E-469F-B3FE-5D85FF786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FC7C0-E02A-44BD-85DF-E53742545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C804DE-C696-4D71-A38C-535524D7D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EC14-752A-42A6-8A94-6EFA4377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95E810-E2B3-4C28-BB9E-688692B96D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BE2671-DB1A-4361-BB54-632E791111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F37FF1-FF3A-4BD6-9F05-AEE2771F95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861AE-C0A1-47D9-AC54-1A80BFB24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BF220-B1C4-4478-B065-0772E0ABA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10CC9E-856D-4A05-ACB1-07FDBA736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59122-EB5D-4660-9C10-3D78AD013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14A73-E06F-483F-B953-896BA7D47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2613A-8D97-4513-898C-1DF88CD41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4E3C2-BC35-4E84-822E-521C55CDC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3BD4-48CD-41DF-9F45-E0CF231A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601B1-FC1B-4E41-876D-9F3590DD7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34A829-4565-40EC-9351-BDBD05B2C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E2DD9-7E65-4BB3-9828-52AAE3FF4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0250-AF49-4B8F-B24E-7B22A289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2803-A374-43F3-B339-9650BF17D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80DF-62E9-4FE2-B041-6847CBF1325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7C80-23DF-4634-B525-FB6C4197CCE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1A09-9A08-4F41-8B24-140A6524EFD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01A3-143B-4E57-8CBE-512E8E5CA28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74DD-022B-4DB7-8B50-CFEA6CA3C45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FB75-3891-4482-91BE-DA5701A26A2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Sherri Christopher</cp:lastModifiedBy>
  <cp:lastPrinted>2014-03-31T16:50:29Z</cp:lastPrinted>
  <dcterms:modified xsi:type="dcterms:W3CDTF">2014-04-01T14:05:02Z</dcterms:modified>
  <cp:revision>90</cp:revision>
  <dc:subject/>
  <dc:title>Tuscola High School Parent Night</dc:title>
</cp:coreProperties>
</file>