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EF3B-5F3A-4776-A68C-393186A8B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97BD-05F2-4831-B0AB-7020763FEA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644D-F3BF-4F50-9163-877EAA53D8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899C-0760-4052-8C42-CDFC7AC610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4E00-2E1B-4CDF-913B-2D00D56B3B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914D-66BA-4D85-A390-5444343460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AC89-82FF-46B9-8B29-53DE4D3DDA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2D7D-E363-4518-8D2C-462F90663F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43BF-2C90-46FD-A648-2000CA2C03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6F26-CA82-496D-BF87-7FAE08C398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EF53-1E7E-471A-902D-8EAFD2304F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B321-8DA0-4F8F-902B-7F5A0F0E66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743B-2178-4D4F-81D5-E223B7B3E1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EF70-473E-4C95-B15D-8AFCDC0897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1349-7C6A-4AE6-A406-3D9BD215C1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1FD71-1E46-4ED6-BFBA-97701334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427F-4B70-413C-A64F-258DA5BB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74BF0-A880-44D0-88FE-A1ACDC8F1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CAC97-83B6-4735-85AD-C2601D6D9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E8E5A-A1A8-4431-84A5-BB1A7E863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955F2-FFE7-438C-AFB0-4826AF736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5DAD8-87B3-488F-BFE9-0106D93DC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6D72B-A824-4D74-B077-BC5B97F31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43ACB-3FF9-4EB8-84ED-D2CC1D2FC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A6769-1161-4750-B272-6BC151F78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0EF9-DDA3-4445-BF9E-12C5A0CD8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7A43E-3612-4ECB-ABD1-AF6BDCF0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21911-6D10-4457-85E9-31383DBD6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29E63-092A-4EBA-9BC1-2485BCF0A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8E53-F74F-47E6-BB01-AE0DBBCE5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122AC-4059-4001-B2AA-D2C8DA801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4645C-1BDA-439B-9CC2-DE8A2D33E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F160B-1FCB-4F24-929C-300F9FD0A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6CF6E-EF2B-4351-A541-E6C42BBC1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96532-4DD2-4559-836E-80AFA7EE2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2307F-1C24-4133-BC2F-1954CCBA9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D420A-3725-4ADE-AEFC-E76CDFA84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EBE4-D89F-43F7-ADFB-793C566C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7D82A-8ED5-4B8A-99F5-AE5EC14D0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A6047-F937-4A9D-99CD-91CEDDE5D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775AA-074E-4CA3-9862-48C3A1D80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02855-F236-42A7-9A76-7CA3B806C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92690-AB16-4697-81FE-3D00F248A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2EAC2-FE8F-499F-9251-796BCFB884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FFD8BD-74DB-41EC-8423-E6979BD212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6CE70-595E-4152-83D5-063EFBD48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78FA2C-9872-4436-B9C7-B08B7668CC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69E71-DAB9-4748-979C-86DC0341E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FD03D-736A-4F56-A713-690829D4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DDE05-4149-4B9A-8AB2-562316B0C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C158D-08BA-4B15-92F0-2B3647A60B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788E1-E809-40F8-8235-5C5CAAA2A4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2DCB0-B53F-4B4B-B5E7-467DAD2AC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774E3-3F2A-4349-92E8-F58A0E1A4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6B55B-0CFE-45E3-969B-1A897AA40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5CE29-FF7E-4731-A301-BE96256EDD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0758E-C9B3-418C-A90A-C8E945D28C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B9E113-2007-4ACB-894D-80D53E594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278A57-8216-4624-B6AC-D350F0BD3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5DF97-80CF-48FF-8E46-C1526495A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EF751-3F24-49DC-8BBA-47D76ACE3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4EE81-5B59-48C8-85A9-B5996CEA8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1F40D-886D-4723-86D8-450753FE1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36CFF-5F22-41CE-AF32-E2635EAD3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6DD68-9E35-487E-8E9B-35CB99A13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58E97-76A8-49D6-A61C-67921EB7D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EC1A9-A78B-4431-947E-04A364FCB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2238B-8ED5-4EC6-BDD8-E0E4B9F6B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8F19A7-AE2F-488B-855B-B9E5B70BC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3232EF-EA2E-4260-BE8A-9FDD8F14C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5701A-C95A-45F7-B24E-AEE95EA9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740E4-722E-4088-AE21-9D8D6D9273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3BE5B6-DB6B-4242-BCF6-7234BBEB5E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518772-BBE6-4772-A7EB-6A1F843A6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ECCC9C-89FA-4BFC-806A-F054A006D4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4DB0D-CE30-453A-8B6A-C8DB878FF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8EF95-8907-4E0A-B0E1-488292FC9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1A90B-BF30-49C4-A35E-62A47693A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E0641-CE56-4994-A8F1-A8774835A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26FBA-C84B-491F-93E2-ADC941FB6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C2841-9135-407B-85F1-F10478E29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97DC-1758-4A26-98E3-BEA947DF6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F8255-5A31-4E4B-A3B7-00D823C24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58E275-A628-4AA8-9AA5-1041D94FC8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B30C9-13AC-49C6-A3BA-A99ED93D95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EC38-E7A9-4D10-89CD-BE166BA5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B7CB9-3630-4CBE-8C04-0BCB2FCCB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144A-7F4B-49DA-8223-8A5B2A3F338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9532-9127-41EA-B51B-DE74136D232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449B-C53B-4BFF-9C14-74965DCB49C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EFC8-320F-4E70-ABAB-E73510E58F0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2154-7E7B-4367-BDB2-8FD0507D104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E22B-DE90-468C-863A-8FF8D77948A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Tuscola High School</cp:lastModifiedBy>
  <cp:lastPrinted>2014-03-31T16:50:29Z</cp:lastPrinted>
  <dcterms:modified xsi:type="dcterms:W3CDTF">2014-03-31T22:57:49Z</dcterms:modified>
  <cp:revision>90</cp:revision>
  <dc:subject/>
  <dc:title>Tuscola High School Parent Night</dc:title>
</cp:coreProperties>
</file>